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4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13.png" ContentType="image/png"/>
  <Override PartName="/ppt/media/image4.jpeg" ContentType="image/jpeg"/>
  <Override PartName="/ppt/media/image8.wmf" ContentType="image/x-wmf"/>
  <Override PartName="/ppt/media/image9.wmf" ContentType="image/x-wmf"/>
  <Override PartName="/ppt/media/image30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7.jpeg" ContentType="image/jpeg"/>
  <Override PartName="/ppt/media/image11.wmf" ContentType="image/x-wmf"/>
  <Override PartName="/ppt/media/image32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5.png" ContentType="image/png"/>
  <Override PartName="/ppt/media/image29.jpeg" ContentType="image/jpeg"/>
  <Override PartName="/ppt/media/image12.wmf" ContentType="image/x-wmf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5E0-D7FD-47B2-BABE-81BC3365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56B-9D76-46E5-AA45-4FE075BB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3CF-43EB-418F-B118-4EE350ED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DB6-EA3B-4E7B-B98B-562C1AE9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8CD-6BC3-4113-89DE-5C595E47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8EB-09D4-4E89-B849-36E29D5F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EB9-86A2-402C-B08E-90EB1C5F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DB1-E935-43EE-928E-66653261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661-8D49-4921-8207-A9ABA9A1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36D-801A-4D29-BE20-679D825B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C29-1FF1-4D1B-A690-AB00E802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A06-49F1-47D2-BEEB-61B4ABA6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5A8E-D2C2-4349-A8B5-57C40FADD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47640" y="981000"/>
            <a:ext cx="820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c5c8a"/>
                </a:solidFill>
                <a:latin typeface="Arial"/>
              </a:rPr>
              <a:t>The Developement of Motorway network in Croatia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1619280" y="1413000"/>
            <a:ext cx="3166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808080"/>
                </a:solidFill>
                <a:latin typeface="Arial"/>
              </a:rPr>
              <a:t>Goran Puž, </a:t>
            </a:r>
            <a:r>
              <a:rPr b="0" lang="hr-HR" sz="1800" spc="-1" strike="noStrike">
                <a:solidFill>
                  <a:srgbClr val="808080"/>
                </a:solidFill>
                <a:latin typeface="Arial"/>
              </a:rPr>
              <a:t>PhD, civ.eng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8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0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45" name="Line 31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2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A1_MOST KRKA_032"/>
          <p:cNvPicPr/>
          <p:nvPr/>
        </p:nvPicPr>
        <p:blipFill>
          <a:blip r:embed="rId3"/>
          <a:stretch/>
        </p:blipFill>
        <p:spPr>
          <a:xfrm>
            <a:off x="1692360" y="1844640"/>
            <a:ext cx="735012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37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64160" y="882720"/>
            <a:ext cx="13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4. Design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79280" y="1268280"/>
            <a:ext cx="748836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6699"/>
                </a:solidFill>
                <a:latin typeface="Arial"/>
              </a:rPr>
              <a:t>Protection criteria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- Avoiding valuable construction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agricultural or forest land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- Keeping safe water protection areas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- Not affecting the urban environment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66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Avoiding protected natural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preserves or cultural –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historical sights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60"/>
          <p:cNvPicPr/>
          <p:nvPr/>
        </p:nvPicPr>
        <p:blipFill>
          <a:blip r:embed="rId3"/>
          <a:stretch/>
        </p:blipFill>
        <p:spPr>
          <a:xfrm>
            <a:off x="6492960" y="3068640"/>
            <a:ext cx="2495520" cy="3745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Sv_Marko2"/>
          <p:cNvPicPr/>
          <p:nvPr/>
        </p:nvPicPr>
        <p:blipFill>
          <a:blip r:embed="rId4"/>
          <a:stretch/>
        </p:blipFill>
        <p:spPr>
          <a:xfrm>
            <a:off x="3900600" y="3068640"/>
            <a:ext cx="2495520" cy="3745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SPACVA_priroda_4"/>
          <p:cNvPicPr/>
          <p:nvPr/>
        </p:nvPicPr>
        <p:blipFill>
          <a:blip r:embed="rId5"/>
          <a:stretch/>
        </p:blipFill>
        <p:spPr>
          <a:xfrm>
            <a:off x="179280" y="4248000"/>
            <a:ext cx="3624480" cy="2565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Bistrica"/>
          <p:cNvPicPr/>
          <p:nvPr/>
        </p:nvPicPr>
        <p:blipFill>
          <a:blip r:embed="rId6"/>
          <a:stretch/>
        </p:blipFill>
        <p:spPr>
          <a:xfrm>
            <a:off x="5530680" y="890640"/>
            <a:ext cx="34578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47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66320" y="795240"/>
            <a:ext cx="22611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4. Design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c5c8a"/>
                </a:solidFill>
                <a:latin typeface="Arial"/>
              </a:rPr>
              <a:t>Full scale motorway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53800" y="5589720"/>
            <a:ext cx="2375280" cy="10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c5c8a"/>
                </a:solidFill>
                <a:latin typeface="Arial"/>
              </a:rPr>
              <a:t>Design speed</a:t>
            </a:r>
            <a:br>
              <a:rPr sz="1800"/>
            </a:br>
            <a:r>
              <a:rPr b="0" lang="pl-PL" sz="1800" spc="-1" strike="noStrike">
                <a:solidFill>
                  <a:srgbClr val="5c5c8a"/>
                </a:solidFill>
                <a:latin typeface="Arial"/>
              </a:rPr>
              <a:t>120 km/h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c5c8a"/>
                </a:solidFill>
                <a:latin typeface="Arial"/>
              </a:rPr>
              <a:t>100 km/h - mountain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SVA TRI KOD SVETOG ROKA"/>
          <p:cNvPicPr/>
          <p:nvPr/>
        </p:nvPicPr>
        <p:blipFill>
          <a:blip r:embed="rId3"/>
          <a:stretch/>
        </p:blipFill>
        <p:spPr>
          <a:xfrm>
            <a:off x="3924360" y="4869000"/>
            <a:ext cx="2755800" cy="183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35CR2780"/>
          <p:cNvPicPr/>
          <p:nvPr/>
        </p:nvPicPr>
        <p:blipFill>
          <a:blip r:embed="rId4"/>
          <a:stretch/>
        </p:blipFill>
        <p:spPr>
          <a:xfrm>
            <a:off x="6769080" y="4437000"/>
            <a:ext cx="2195640" cy="237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NPP_Eng"/>
          <p:cNvPicPr/>
          <p:nvPr/>
        </p:nvPicPr>
        <p:blipFill>
          <a:blip r:embed="rId5"/>
          <a:srcRect l="20652" t="7396" r="18803" b="52093"/>
          <a:stretch/>
        </p:blipFill>
        <p:spPr>
          <a:xfrm>
            <a:off x="0" y="1197000"/>
            <a:ext cx="91440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56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65960" y="795240"/>
            <a:ext cx="1855440" cy="8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4. Design</a:t>
            </a:r>
            <a:br>
              <a:rPr sz="2000"/>
            </a:br>
            <a:r>
              <a:rPr b="0" lang="pl-PL" sz="1800" spc="-1" strike="noStrike">
                <a:solidFill>
                  <a:srgbClr val="5c5c8a"/>
                </a:solidFill>
                <a:latin typeface="Arial"/>
              </a:rPr>
              <a:t>Service stations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50920" y="1557360"/>
            <a:ext cx="7850160" cy="156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Arial"/>
              </a:rPr>
              <a:t>Rest areas: 124 – every 20 k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Arial"/>
              </a:rPr>
              <a:t>Rest areas with filling station: 75 – every 31 k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Arial"/>
              </a:rPr>
              <a:t>Caffe bars: 90 – every 28 k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Arial"/>
              </a:rPr>
              <a:t>Restaurants: 17 - every 138 k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Arial"/>
              </a:rPr>
              <a:t>Hotels: 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435640" y="3716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Arial"/>
              </a:rPr>
              <a:t>Maintenance and Trafic Control Centres: 2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PlitviceA3"/>
          <p:cNvPicPr/>
          <p:nvPr/>
        </p:nvPicPr>
        <p:blipFill>
          <a:blip r:embed="rId3"/>
          <a:stretch/>
        </p:blipFill>
        <p:spPr>
          <a:xfrm>
            <a:off x="5362560" y="907920"/>
            <a:ext cx="3673440" cy="2820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35CR3156.JPG"/>
          <p:cNvPicPr/>
          <p:nvPr/>
        </p:nvPicPr>
        <p:blipFill>
          <a:blip r:embed="rId4"/>
          <a:stretch/>
        </p:blipFill>
        <p:spPr>
          <a:xfrm>
            <a:off x="5435640" y="4389480"/>
            <a:ext cx="3527280" cy="2352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63" name="Picture 16" descr="HAC SNIMKE IZ ZRAKA_128"/>
          <p:cNvPicPr/>
          <p:nvPr/>
        </p:nvPicPr>
        <p:blipFill>
          <a:blip r:embed="rId5"/>
          <a:stretch/>
        </p:blipFill>
        <p:spPr>
          <a:xfrm>
            <a:off x="144360" y="3319560"/>
            <a:ext cx="514836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66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64160" y="882720"/>
            <a:ext cx="13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4. Design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Image06"/>
          <p:cNvPicPr/>
          <p:nvPr/>
        </p:nvPicPr>
        <p:blipFill>
          <a:blip r:embed="rId3"/>
          <a:stretch/>
        </p:blipFill>
        <p:spPr>
          <a:xfrm>
            <a:off x="5435640" y="4005360"/>
            <a:ext cx="3598920" cy="2738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Mala_Kapela_ekran"/>
          <p:cNvPicPr/>
          <p:nvPr/>
        </p:nvPicPr>
        <p:blipFill>
          <a:blip r:embed="rId4"/>
          <a:stretch/>
        </p:blipFill>
        <p:spPr>
          <a:xfrm>
            <a:off x="5435640" y="1436760"/>
            <a:ext cx="3581280" cy="24969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5"/>
          <p:cNvSpPr/>
          <p:nvPr/>
        </p:nvSpPr>
        <p:spPr>
          <a:xfrm>
            <a:off x="7164360" y="98100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Arial"/>
              </a:rPr>
              <a:t>Brinje 2007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179280" y="1268280"/>
            <a:ext cx="504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99"/>
                </a:solidFill>
                <a:latin typeface="Arial"/>
              </a:rPr>
              <a:t>Traffic safety: safest tunnels in Europe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  <a:ea typeface="宋体"/>
              </a:rPr>
              <a:t>European Tunnel Assessment Programme – Euro TAP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Pregled opreme Brinje 100dpi"/>
          <p:cNvPicPr/>
          <p:nvPr/>
        </p:nvPicPr>
        <p:blipFill>
          <a:blip r:embed="rId5"/>
          <a:stretch/>
        </p:blipFill>
        <p:spPr>
          <a:xfrm>
            <a:off x="250920" y="2276640"/>
            <a:ext cx="5041800" cy="4465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1" descr="Vatr_postr_kapela"/>
          <p:cNvPicPr/>
          <p:nvPr/>
        </p:nvPicPr>
        <p:blipFill>
          <a:blip r:embed="rId6"/>
          <a:stretch/>
        </p:blipFill>
        <p:spPr>
          <a:xfrm>
            <a:off x="250920" y="2347920"/>
            <a:ext cx="29797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50" name="Line 7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252360" y="1197000"/>
            <a:ext cx="43909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The Developement of Motorway network in Croatia </a:t>
            </a:r>
            <a:br>
              <a:rPr sz="2000"/>
            </a:b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1. Background</a:t>
            </a:r>
            <a:br>
              <a:rPr sz="2000"/>
            </a:b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2. History</a:t>
            </a:r>
            <a:br>
              <a:rPr sz="2000"/>
            </a:b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3. Strategy</a:t>
            </a:r>
            <a:br>
              <a:rPr sz="2000"/>
            </a:b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4. Design</a:t>
            </a:r>
            <a:br>
              <a:rPr sz="2000"/>
            </a:b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5. Construction</a:t>
            </a:r>
            <a:br>
              <a:rPr sz="2000"/>
            </a:b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6. Structures</a:t>
            </a:r>
            <a:br>
              <a:rPr sz="2000"/>
            </a:b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7. Financing</a:t>
            </a:r>
            <a:br>
              <a:rPr sz="2000"/>
            </a:b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8. Impacts (sustainability)</a:t>
            </a:r>
            <a:br>
              <a:rPr sz="2000"/>
            </a:b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9. Future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5c5c8a"/>
                </a:solidFill>
                <a:latin typeface="Arial"/>
              </a:rPr>
              <a:t> 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Croatia424Dubrovnik"/>
          <p:cNvPicPr/>
          <p:nvPr/>
        </p:nvPicPr>
        <p:blipFill>
          <a:blip r:embed="rId3"/>
          <a:stretch/>
        </p:blipFill>
        <p:spPr>
          <a:xfrm>
            <a:off x="5148360" y="3208320"/>
            <a:ext cx="3744720" cy="346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euro-cro"/>
          <p:cNvPicPr/>
          <p:nvPr/>
        </p:nvPicPr>
        <p:blipFill>
          <a:blip r:embed="rId4"/>
          <a:stretch/>
        </p:blipFill>
        <p:spPr>
          <a:xfrm>
            <a:off x="4643280" y="1287360"/>
            <a:ext cx="4345200" cy="185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vijadukt1"/>
          <p:cNvPicPr/>
          <p:nvPr/>
        </p:nvPicPr>
        <p:blipFill>
          <a:blip r:embed="rId5"/>
          <a:stretch/>
        </p:blipFill>
        <p:spPr>
          <a:xfrm>
            <a:off x="324000" y="5589720"/>
            <a:ext cx="47512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58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13040" y="907920"/>
            <a:ext cx="22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c5c8a"/>
                </a:solidFill>
                <a:latin typeface="Arial"/>
              </a:rPr>
              <a:t>1. Background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karte5 copy"/>
          <p:cNvPicPr/>
          <p:nvPr/>
        </p:nvPicPr>
        <p:blipFill>
          <a:blip r:embed="rId3"/>
          <a:stretch/>
        </p:blipFill>
        <p:spPr>
          <a:xfrm>
            <a:off x="2701800" y="1434960"/>
            <a:ext cx="5545440" cy="5378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34920" y="582624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6699"/>
                </a:solidFill>
                <a:latin typeface="Arial"/>
                <a:ea typeface="Times New Roman"/>
              </a:rPr>
              <a:t>hree large geographic regions in Croatia have different </a:t>
            </a: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geomorphological and </a:t>
            </a:r>
            <a:r>
              <a:rPr b="0" lang="en-GB" sz="1800" spc="-1" strike="noStrike">
                <a:solidFill>
                  <a:srgbClr val="666699"/>
                </a:solidFill>
                <a:latin typeface="Arial"/>
                <a:ea typeface="Times New Roman"/>
              </a:rPr>
              <a:t>climatic characteristic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MC900389360[1]"/>
          <p:cNvPicPr/>
          <p:nvPr/>
        </p:nvPicPr>
        <p:blipFill>
          <a:blip r:embed="rId4"/>
          <a:stretch/>
        </p:blipFill>
        <p:spPr>
          <a:xfrm>
            <a:off x="3924360" y="1557360"/>
            <a:ext cx="57636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MC900058186[1]"/>
          <p:cNvPicPr/>
          <p:nvPr/>
        </p:nvPicPr>
        <p:blipFill>
          <a:blip r:embed="rId5"/>
          <a:stretch/>
        </p:blipFill>
        <p:spPr>
          <a:xfrm>
            <a:off x="6227640" y="13240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" descr="MC900014789[1]"/>
          <p:cNvPicPr/>
          <p:nvPr/>
        </p:nvPicPr>
        <p:blipFill>
          <a:blip r:embed="rId6"/>
          <a:stretch/>
        </p:blipFill>
        <p:spPr>
          <a:xfrm>
            <a:off x="5492880" y="3914640"/>
            <a:ext cx="879480" cy="45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MC900200501[1]"/>
          <p:cNvPicPr/>
          <p:nvPr/>
        </p:nvPicPr>
        <p:blipFill>
          <a:blip r:embed="rId7"/>
          <a:stretch/>
        </p:blipFill>
        <p:spPr>
          <a:xfrm>
            <a:off x="3005280" y="4437000"/>
            <a:ext cx="776160" cy="762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MC900243655[1]"/>
          <p:cNvPicPr/>
          <p:nvPr/>
        </p:nvPicPr>
        <p:blipFill>
          <a:blip r:embed="rId8"/>
          <a:stretch/>
        </p:blipFill>
        <p:spPr>
          <a:xfrm>
            <a:off x="8101080" y="2492280"/>
            <a:ext cx="717480" cy="520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2"/>
          <p:cNvSpPr/>
          <p:nvPr/>
        </p:nvSpPr>
        <p:spPr>
          <a:xfrm>
            <a:off x="2484360" y="145080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c5c8a"/>
                </a:solidFill>
                <a:latin typeface="Arial"/>
              </a:rPr>
              <a:t>eastern edges of the Alp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3"/>
          <p:cNvSpPr/>
          <p:nvPr/>
        </p:nvSpPr>
        <p:spPr>
          <a:xfrm>
            <a:off x="6875640" y="1407960"/>
            <a:ext cx="136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c5c8a"/>
                </a:solidFill>
                <a:latin typeface="Arial"/>
              </a:rPr>
              <a:t>Pannonian lowland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4"/>
          <p:cNvSpPr/>
          <p:nvPr/>
        </p:nvSpPr>
        <p:spPr>
          <a:xfrm>
            <a:off x="8029440" y="299736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c5c8a"/>
                </a:solidFill>
                <a:latin typeface="Arial"/>
              </a:rPr>
              <a:t>Danube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5275440" y="4361040"/>
            <a:ext cx="167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c5c8a"/>
                </a:solidFill>
                <a:latin typeface="Arial"/>
              </a:rPr>
              <a:t>Dinara mountain range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6"/>
          <p:cNvSpPr/>
          <p:nvPr/>
        </p:nvSpPr>
        <p:spPr>
          <a:xfrm>
            <a:off x="2718360" y="516888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5c5c8a"/>
                </a:solidFill>
                <a:latin typeface="Arial"/>
              </a:rPr>
              <a:t>Adriatic Sea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7"/>
          <p:cNvSpPr/>
          <p:nvPr/>
        </p:nvSpPr>
        <p:spPr>
          <a:xfrm>
            <a:off x="179280" y="2390760"/>
            <a:ext cx="23050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c5c8a"/>
                </a:solidFill>
                <a:latin typeface="Arial"/>
              </a:rPr>
              <a:t>Basic fact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- 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Croatian mainland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covers 56,542 km</a:t>
            </a:r>
            <a:r>
              <a:rPr b="0" lang="en-GB" sz="1800" spc="-1" strike="noStrike" baseline="30000">
                <a:solidFill>
                  <a:srgbClr val="5c5c8a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- 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populat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ion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 4,4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 mil.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inhabitants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- independent stat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since 1991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8" descr="Hrvatski Grb"/>
          <p:cNvPicPr/>
          <p:nvPr/>
        </p:nvPicPr>
        <p:blipFill>
          <a:blip r:embed="rId9"/>
          <a:stretch/>
        </p:blipFill>
        <p:spPr>
          <a:xfrm>
            <a:off x="7885080" y="5300640"/>
            <a:ext cx="104472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77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nfrastruktura_tamno_oker_plavo more"/>
          <p:cNvPicPr/>
          <p:nvPr/>
        </p:nvPicPr>
        <p:blipFill>
          <a:blip r:embed="rId3"/>
          <a:stretch/>
        </p:blipFill>
        <p:spPr>
          <a:xfrm>
            <a:off x="2556000" y="1508040"/>
            <a:ext cx="6480000" cy="52437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113040" y="907920"/>
            <a:ext cx="22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c5c8a"/>
                </a:solidFill>
                <a:latin typeface="Arial"/>
              </a:rPr>
              <a:t>1. Background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karta euro"/>
          <p:cNvPicPr/>
          <p:nvPr/>
        </p:nvPicPr>
        <p:blipFill>
          <a:blip r:embed="rId4"/>
          <a:stretch/>
        </p:blipFill>
        <p:spPr>
          <a:xfrm>
            <a:off x="106200" y="1557360"/>
            <a:ext cx="2379960" cy="518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2" name="Rectangle 10"/>
          <p:cNvSpPr/>
          <p:nvPr/>
        </p:nvSpPr>
        <p:spPr>
          <a:xfrm>
            <a:off x="4067280" y="789120"/>
            <a:ext cx="4897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8a"/>
                </a:solidFill>
                <a:latin typeface="Arial"/>
              </a:rPr>
              <a:t>Geotraffic position of Croatia in European inland and maritime traffic rout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85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20240" y="907920"/>
            <a:ext cx="15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c5c8a"/>
                </a:solidFill>
                <a:latin typeface="Arial"/>
              </a:rPr>
              <a:t>2. Histor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RH_mreza izgradjenih AC stanje 1990_sl2_"/>
          <p:cNvPicPr/>
          <p:nvPr/>
        </p:nvPicPr>
        <p:blipFill>
          <a:blip r:embed="rId3"/>
          <a:srcRect l="881" t="1086" r="1543" b="8087"/>
          <a:stretch/>
        </p:blipFill>
        <p:spPr>
          <a:xfrm>
            <a:off x="2556000" y="836640"/>
            <a:ext cx="6419880" cy="5977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108000" y="5445000"/>
            <a:ext cx="5113440" cy="127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Until 1991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357 km of motorways and semi-motorways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 flipH="1" flipV="1">
            <a:off x="4284720" y="1484280"/>
            <a:ext cx="792000" cy="432000"/>
          </a:xfrm>
          <a:prstGeom prst="line">
            <a:avLst/>
          </a:prstGeom>
          <a:ln w="6048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8604360" y="3068640"/>
            <a:ext cx="433440" cy="0"/>
          </a:xfrm>
          <a:prstGeom prst="line">
            <a:avLst/>
          </a:prstGeom>
          <a:ln w="6048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9280" y="2492280"/>
            <a:ext cx="2376720" cy="9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Initially: accent on longitudinal ax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547640" y="3429000"/>
            <a:ext cx="722520" cy="0"/>
          </a:xfrm>
          <a:prstGeom prst="line">
            <a:avLst/>
          </a:prstGeom>
          <a:ln w="6048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324000" y="3429000"/>
            <a:ext cx="792000" cy="0"/>
          </a:xfrm>
          <a:prstGeom prst="line">
            <a:avLst/>
          </a:prstGeom>
          <a:ln w="6048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 flipH="1">
            <a:off x="3995640" y="2060640"/>
            <a:ext cx="1224000" cy="576360"/>
          </a:xfrm>
          <a:prstGeom prst="line">
            <a:avLst/>
          </a:prstGeom>
          <a:ln w="50760">
            <a:solidFill>
              <a:srgbClr val="8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5435640" y="2133720"/>
            <a:ext cx="431640" cy="3024000"/>
          </a:xfrm>
          <a:prstGeom prst="line">
            <a:avLst/>
          </a:prstGeom>
          <a:ln w="50760">
            <a:solidFill>
              <a:srgbClr val="8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>
            <a:off x="6948360" y="3068640"/>
            <a:ext cx="790560" cy="2808360"/>
          </a:xfrm>
          <a:prstGeom prst="line">
            <a:avLst/>
          </a:prstGeom>
          <a:ln w="50760">
            <a:solidFill>
              <a:srgbClr val="8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 flipV="1">
            <a:off x="7812000" y="1413000"/>
            <a:ext cx="217440" cy="1295280"/>
          </a:xfrm>
          <a:prstGeom prst="line">
            <a:avLst/>
          </a:prstGeom>
          <a:ln w="50760">
            <a:solidFill>
              <a:srgbClr val="8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 flipV="1">
            <a:off x="5508720" y="836640"/>
            <a:ext cx="649080" cy="1008000"/>
          </a:xfrm>
          <a:prstGeom prst="line">
            <a:avLst/>
          </a:prstGeom>
          <a:ln w="50760">
            <a:solidFill>
              <a:srgbClr val="8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79280" y="3639960"/>
            <a:ext cx="3384720" cy="9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neglected transversal axes – maritime orientation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1476360" y="4365720"/>
            <a:ext cx="0" cy="1008000"/>
          </a:xfrm>
          <a:prstGeom prst="line">
            <a:avLst/>
          </a:prstGeom>
          <a:ln w="50760">
            <a:solidFill>
              <a:srgbClr val="8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26360" y="1413000"/>
            <a:ext cx="24271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First motorways: 197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05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91520" y="90792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c5c8a"/>
                </a:solidFill>
                <a:latin typeface="Arial"/>
              </a:rPr>
              <a:t>2. History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79280" y="2421000"/>
            <a:ext cx="482616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- 1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  <a:ea typeface="Times New Roman"/>
              </a:rPr>
              <a:t>991 to 1998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: 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  <a:ea typeface="Times New Roman"/>
              </a:rPr>
              <a:t>very few construction projects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- intensive 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  <a:ea typeface="Times New Roman"/>
              </a:rPr>
              <a:t>production of studies and design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  <a:ea typeface="Times New Roman"/>
              </a:rPr>
              <a:t>document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  <a:ea typeface="Times New Roman"/>
              </a:rPr>
              <a:t>- project start: 1998 - 2001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  <a:ea typeface="Times New Roman"/>
              </a:rPr>
              <a:t>- accelerated construction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</a:rPr>
              <a:t>: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  <a:ea typeface="Times New Roman"/>
              </a:rPr>
              <a:t> from 2001 to 2009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  <a:ea typeface="Times New Roman"/>
              </a:rPr>
              <a:t>       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  <a:ea typeface="Times New Roman"/>
              </a:rPr>
              <a:t>more than 700 km of new motorway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c5c8a"/>
                </a:solidFill>
                <a:latin typeface="Arial"/>
                <a:ea typeface="Times New Roman"/>
              </a:rPr>
              <a:t>       </a:t>
            </a:r>
            <a:r>
              <a:rPr b="0" lang="hr-HR" sz="1800" spc="-1" strike="noStrike">
                <a:solidFill>
                  <a:srgbClr val="5c5c8a"/>
                </a:solidFill>
                <a:latin typeface="Arial"/>
                <a:ea typeface="Times New Roman"/>
              </a:rPr>
              <a:t>average: 80 km per yea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79280" y="1341000"/>
            <a:ext cx="4824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666699"/>
                </a:solidFill>
                <a:latin typeface="Arial"/>
              </a:rPr>
              <a:t>Motorway network:</a:t>
            </a: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the biggest engineering venture in Croatia since its independenc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20"/>
          <p:cNvPicPr/>
          <p:nvPr/>
        </p:nvPicPr>
        <p:blipFill>
          <a:blip r:embed="rId3"/>
          <a:stretch/>
        </p:blipFill>
        <p:spPr>
          <a:xfrm>
            <a:off x="5129280" y="882720"/>
            <a:ext cx="3902040" cy="5859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49"/>
          <p:cNvPicPr/>
          <p:nvPr/>
        </p:nvPicPr>
        <p:blipFill>
          <a:blip r:embed="rId4"/>
          <a:stretch/>
        </p:blipFill>
        <p:spPr>
          <a:xfrm>
            <a:off x="2195640" y="4869000"/>
            <a:ext cx="280800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14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80720" y="9079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c5c8a"/>
                </a:solidFill>
                <a:latin typeface="Arial"/>
              </a:rPr>
              <a:t>3. Strateg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79280" y="1430280"/>
            <a:ext cx="288144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STRATEGIC DEVELOPMENT DOCUMENTS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Zoning Strategy of the Republic of Croati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Traffic Development Strategy of the Republic of Croatia</a:t>
            </a: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 1999</a:t>
            </a: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666699"/>
                </a:solidFill>
                <a:latin typeface="Arial"/>
              </a:rPr>
              <a:t>1500 km of motorway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RH-oznakeAC"/>
          <p:cNvPicPr/>
          <p:nvPr/>
        </p:nvPicPr>
        <p:blipFill>
          <a:blip r:embed="rId3"/>
          <a:stretch/>
        </p:blipFill>
        <p:spPr>
          <a:xfrm>
            <a:off x="3132000" y="906480"/>
            <a:ext cx="5888160" cy="59515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1"/>
          <p:cNvSpPr/>
          <p:nvPr/>
        </p:nvSpPr>
        <p:spPr>
          <a:xfrm>
            <a:off x="179280" y="4462560"/>
            <a:ext cx="4680000" cy="12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goals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accessibility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capacity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79280" y="5373720"/>
            <a:ext cx="5040360" cy="157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connection of the entire national territory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economic growth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transit traffic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connection to the European traffic network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252360" y="835200"/>
            <a:ext cx="864072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KIG logo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IGH%20logo%201"/>
          <p:cNvPicPr/>
          <p:nvPr/>
        </p:nvPicPr>
        <p:blipFill>
          <a:blip r:embed="rId2"/>
          <a:stretch/>
        </p:blipFill>
        <p:spPr>
          <a:xfrm>
            <a:off x="7667640" y="44280"/>
            <a:ext cx="1368360" cy="660600"/>
          </a:xfrm>
          <a:prstGeom prst="rect">
            <a:avLst/>
          </a:prstGeom>
          <a:ln w="0">
            <a:noFill/>
          </a:ln>
        </p:spPr>
      </p:pic>
      <p:sp>
        <p:nvSpPr>
          <p:cNvPr id="128" name="Line 4"/>
          <p:cNvSpPr/>
          <p:nvPr/>
        </p:nvSpPr>
        <p:spPr>
          <a:xfrm>
            <a:off x="106200" y="765000"/>
            <a:ext cx="8929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106320" y="40464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666699"/>
                </a:solidFill>
                <a:latin typeface="Trebuchet MS"/>
              </a:rPr>
              <a:t>Institut IGH d.d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64160" y="882720"/>
            <a:ext cx="13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c5c8a"/>
                </a:solidFill>
                <a:latin typeface="Arial"/>
              </a:rPr>
              <a:t>4. Design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1268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he perception of space as a basic national resource is rapidly gaining momentum, and so the care about interaction between developed space and its surroundings is becoming increasingly important in the design work.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SPACVA_dio cvora_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50920" y="5049720"/>
            <a:ext cx="4465440" cy="167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Gacka11"/>
          <p:cNvPicPr/>
          <p:nvPr/>
        </p:nvPicPr>
        <p:blipFill>
          <a:blip r:embed="rId4"/>
          <a:stretch/>
        </p:blipFill>
        <p:spPr>
          <a:xfrm>
            <a:off x="297000" y="2349360"/>
            <a:ext cx="4419360" cy="259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CVOR KRAPINA"/>
          <p:cNvPicPr/>
          <p:nvPr/>
        </p:nvPicPr>
        <p:blipFill>
          <a:blip r:embed="rId5"/>
          <a:stretch/>
        </p:blipFill>
        <p:spPr>
          <a:xfrm>
            <a:off x="4859280" y="2349360"/>
            <a:ext cx="3881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33:06Z</dcterms:created>
  <dc:creator>vivan</dc:creator>
  <dc:description/>
  <dc:language>en-US</dc:language>
  <cp:lastModifiedBy>User</cp:lastModifiedBy>
  <dcterms:modified xsi:type="dcterms:W3CDTF">2012-11-26T09:58:20Z</dcterms:modified>
  <cp:revision>458</cp:revision>
  <dc:subject/>
  <dc:title>Slide 1</dc:title>
</cp:coreProperties>
</file>